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C49-6BA8-4A23-842B-7E636FB1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76B-1B77-4951-95D7-551A3CCA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16E8-4D8C-4DB6-9F90-323ADD99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CD0-A470-4871-A64D-748A9FB1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98F-4DE6-41C3-8DA8-3C8A5196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02E-C881-4219-8FE6-FF350F75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27C-631D-4E9A-9A7D-A99188F6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14D-EAF8-45EA-BD48-9B966FD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C99-8F0E-4C02-ABE3-4924571A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B81-DF07-4923-8E27-BC16D0F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8C1-B96A-466E-A492-C979E86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928-B665-47FE-AC60-284C51F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74B6-4E41-444A-87B4-022871CC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a Casa para la Venta!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: Morgan F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449532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casa esta localizada en Hollywood, California, Estados Unidos. Esta en la calle Sexto y cuesta $1,999,999,999. La casa tiene 5 grande dormitorios y 5 bastante grande dormitorios. La casa tiene uno cocina tambien. La cocina es muy moderna. La cocina tien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vera, microondas, freezer, cocina, fregadero, lavavajillas. La casa tiene 4 banos. Tres son grandes y uno son pequena. Dos son en  planta baja y dos en el primer piso. La casa tien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ón, comedor, garaje. La casa muy bonita y moderno. Me gusta la ca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7:02:34Z</dcterms:created>
  <dc:creator>fryemor</dc:creator>
  <dc:description/>
  <dc:language>en-US</dc:language>
  <cp:lastModifiedBy>fryemor</cp:lastModifiedBy>
  <dcterms:modified xsi:type="dcterms:W3CDTF">2012-05-22T13:25:09Z</dcterms:modified>
  <cp:revision>5</cp:revision>
  <dc:subject/>
  <dc:title>La Casa para la Venta</dc:title>
</cp:coreProperties>
</file>